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382-D08E-4E65-B243-94CD670A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FA6-8378-4DF0-9EBE-E31D183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F2F-944B-4E27-B4DC-FA70A779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851-7CC1-4347-AD56-64DD56A2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A4C-7983-4865-8DEE-5F1CB5F2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8A7-B9E3-462C-98BC-77B28A9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A58-092E-47EE-9FD4-96D45AC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B8E-2533-4C49-A9EB-864718C9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8CB-602B-4645-9D5E-F599283E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696-3EA5-41C3-8FFF-678AF540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40A-44EA-46AB-9602-DDD3C68B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3E3-4D86-4B33-BDBC-A127BB1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E37D-39B3-451B-B311-A2813513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4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prueba d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e una oración original con cada verb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e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Repaso del Proposit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o _____________________ (cerrar) la 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ú _______________________ (perder) tus ll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¿_________________________(preferir) usted la lango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Yo ___________ (mover) los libros de la m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sotros _____________________ (entender) los ejercic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lla ____________ (volver) a la casa a las si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Felipe y Juan ___________________(empezar) las prácticas de gra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¿Ustedes ____________ (poder) estudi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¡Tú ___________ (jugar) mucho xbox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e una lista de los 21 paises hispano-hablantes y sus capi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l supplies, they will be checked as of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5 subject spiral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covered in Jumbo Book s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6:41:08Z</dcterms:created>
  <dc:creator>Helen Zumaeta</dc:creator>
  <dc:description/>
  <dc:language>en-US</dc:language>
  <cp:lastModifiedBy>Helen Zumaeta</cp:lastModifiedBy>
  <dcterms:modified xsi:type="dcterms:W3CDTF">2012-09-14T21:05:30Z</dcterms:modified>
  <cp:revision>7</cp:revision>
  <dc:subject/>
  <dc:title>Me llamo _________ Clase 6nh/il La fecha es el 4 de mayo del 2011</dc:title>
</cp:coreProperties>
</file>